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634-9502-4401-8F16-00F5421C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36D-095E-464F-9A4A-74DCF388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777-54AC-47CB-904A-7434DE11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D6E-9731-4D19-A983-268E6F60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87E-7EE8-4A13-8C86-6A2090C8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286-E94A-43EB-882A-CFD50365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7C9-5A94-4ACB-A462-03BD5157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0A6-6AA7-4523-8B4C-C8E1831D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439-E50D-4AEB-8EB9-AB4F9793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210-B497-4552-8EF1-67FF941F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F53-69EB-4F28-AE17-6403DD3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D7E-0FFD-4FEB-8554-47EE5FE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2FBD-0DDB-4237-AF0D-7B563DF40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7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0666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 of chemistry that studies energy changes which take place during reactions and changes in state of matter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mo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096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energy = energy of position/stored energy.  But in chemistry we have chemical potential energy = energy stored in the chemical bonds of a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352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ow much energy stored is determined by kinds of atoms and how they are arr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038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energy that transfers from one object to another due to a difference in temperature betwee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724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ow does heat transfer? From the WARMER to the COLD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e symbol 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nd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TPChart"/>
          <p:cNvGraphicFramePr/>
          <p:nvPr/>
        </p:nvGraphicFramePr>
        <p:xfrm>
          <a:off x="609480" y="1754280"/>
          <a:ext cx="866160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4280"/>
                    <a:ext cx="866160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cific heat of a sub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t capacity of a sub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t of reaction for a chem.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lorie given off by a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rShape1"/>
          <p:cNvSpPr/>
          <p:nvPr/>
        </p:nvSpPr>
        <p:spPr>
          <a:xfrm rot="10800000">
            <a:off x="1193760" y="3271680"/>
            <a:ext cx="254160" cy="254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of heat released by the complete burning of 1 mol of a substance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TPChart"/>
          <p:cNvGraphicFramePr/>
          <p:nvPr/>
        </p:nvGraphicFramePr>
        <p:xfrm>
          <a:off x="127080" y="1841400"/>
          <a:ext cx="914400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841400"/>
                    <a:ext cx="914400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CorShape1"/>
          <p:cNvSpPr/>
          <p:nvPr/>
        </p:nvSpPr>
        <p:spPr>
          <a:xfrm rot="10800000">
            <a:off x="1163520" y="2709720"/>
            <a:ext cx="29232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of combu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of 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 of conservation of energy =matter will neither be created nor destroyed, including chemical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371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means if a system gives off heat (loses), it must go somewhere, therefore it goes into the surrounding area of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590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304812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thermic – system gains heat as the surroundings cool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3886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at i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sl01578_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2167200" cy="185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4419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son is absorb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heat given 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Exothermic – system loses heat as the surroundings hea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iving off 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D00017_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665280" cy="187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47920" y="16002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the body (system) loses heat to the surroundings (skin/air)—sweat/pers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2286000"/>
            <a:ext cx="457200" cy="263520"/>
          </a:xfrm>
          <a:custGeom>
            <a:avLst/>
            <a:gdLst/>
            <a:ahLst/>
            <a:rect l="l" t="t" r="r" b="b"/>
            <a:pathLst>
              <a:path w="288" h="166">
                <a:moveTo>
                  <a:pt x="0" y="0"/>
                </a:moveTo>
                <a:cubicBezTo>
                  <a:pt x="16" y="47"/>
                  <a:pt x="81" y="126"/>
                  <a:pt x="81" y="126"/>
                </a:cubicBezTo>
                <a:cubicBezTo>
                  <a:pt x="128" y="56"/>
                  <a:pt x="72" y="68"/>
                  <a:pt x="189" y="81"/>
                </a:cubicBezTo>
                <a:cubicBezTo>
                  <a:pt x="278" y="140"/>
                  <a:pt x="260" y="166"/>
                  <a:pt x="279" y="108"/>
                </a:cubicBezTo>
                <a:cubicBezTo>
                  <a:pt x="271" y="85"/>
                  <a:pt x="247" y="18"/>
                  <a:pt x="288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2743200"/>
            <a:ext cx="457200" cy="263520"/>
          </a:xfrm>
          <a:custGeom>
            <a:avLst/>
            <a:gdLst/>
            <a:ahLst/>
            <a:rect l="l" t="t" r="r" b="b"/>
            <a:pathLst>
              <a:path w="288" h="166">
                <a:moveTo>
                  <a:pt x="0" y="0"/>
                </a:moveTo>
                <a:cubicBezTo>
                  <a:pt x="16" y="47"/>
                  <a:pt x="81" y="126"/>
                  <a:pt x="81" y="126"/>
                </a:cubicBezTo>
                <a:cubicBezTo>
                  <a:pt x="128" y="56"/>
                  <a:pt x="72" y="68"/>
                  <a:pt x="189" y="81"/>
                </a:cubicBezTo>
                <a:cubicBezTo>
                  <a:pt x="278" y="140"/>
                  <a:pt x="260" y="166"/>
                  <a:pt x="279" y="108"/>
                </a:cubicBezTo>
                <a:cubicBezTo>
                  <a:pt x="271" y="85"/>
                  <a:pt x="247" y="18"/>
                  <a:pt x="288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124080"/>
            <a:ext cx="457200" cy="263520"/>
          </a:xfrm>
          <a:custGeom>
            <a:avLst/>
            <a:gdLst/>
            <a:ahLst/>
            <a:rect l="l" t="t" r="r" b="b"/>
            <a:pathLst>
              <a:path w="288" h="166">
                <a:moveTo>
                  <a:pt x="0" y="0"/>
                </a:moveTo>
                <a:cubicBezTo>
                  <a:pt x="16" y="47"/>
                  <a:pt x="81" y="126"/>
                  <a:pt x="81" y="126"/>
                </a:cubicBezTo>
                <a:cubicBezTo>
                  <a:pt x="128" y="56"/>
                  <a:pt x="72" y="68"/>
                  <a:pt x="189" y="81"/>
                </a:cubicBezTo>
                <a:cubicBezTo>
                  <a:pt x="278" y="140"/>
                  <a:pt x="260" y="166"/>
                  <a:pt x="279" y="108"/>
                </a:cubicBezTo>
                <a:cubicBezTo>
                  <a:pt x="271" y="85"/>
                  <a:pt x="247" y="18"/>
                  <a:pt x="288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1905120"/>
            <a:ext cx="457200" cy="263520"/>
          </a:xfrm>
          <a:custGeom>
            <a:avLst/>
            <a:gdLst/>
            <a:ahLst/>
            <a:rect l="l" t="t" r="r" b="b"/>
            <a:pathLst>
              <a:path w="288" h="166">
                <a:moveTo>
                  <a:pt x="0" y="0"/>
                </a:moveTo>
                <a:cubicBezTo>
                  <a:pt x="16" y="47"/>
                  <a:pt x="81" y="126"/>
                  <a:pt x="81" y="126"/>
                </a:cubicBezTo>
                <a:cubicBezTo>
                  <a:pt x="128" y="56"/>
                  <a:pt x="72" y="68"/>
                  <a:pt x="189" y="81"/>
                </a:cubicBezTo>
                <a:cubicBezTo>
                  <a:pt x="278" y="140"/>
                  <a:pt x="260" y="166"/>
                  <a:pt x="279" y="108"/>
                </a:cubicBezTo>
                <a:cubicBezTo>
                  <a:pt x="271" y="85"/>
                  <a:pt x="247" y="18"/>
                  <a:pt x="288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3526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movement is measured 2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809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alories – quantity of heat needed to raise the temp. of 1 g of pure water 1 deg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6483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Joule – SI unit of energ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capacity = how much heat is needed to raise the temp of an object 1 deg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479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pends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182880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– more mass of the object, more heat it can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make-up – different substance can have diff. Heat capacity even though mass may b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505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f course, we cant call it just heat capacity, we have to change the name = specific heat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4191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mount of heat needed to raise the temp of 1 g of the stuff 1 deg 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5029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PY FORMULA FROM PAGE 5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4 Note Guide, part d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halpy = heat content of a system at constant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hemical reaction, the enthalpy change for the reaction can be written as either a reactant or a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438280"/>
            <a:ext cx="7619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lcium oxide and water react a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otherm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(s) 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a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 + 65.2 k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29718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3434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ats of reaction usually shown as Δ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3526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of reaction = enthalpy change for the chemical equation exactly as it is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4724280"/>
            <a:ext cx="739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(s) 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a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    ΔH =-65.2k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ther reactions are endothermi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king soda decomposes when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1676520"/>
            <a:ext cx="72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 + 129 kJ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) +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g)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133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ΔH=129k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514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amount of heat released or absorbed during a reaction depends on the number of moles of the reactants invov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76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. 516 Sample problem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733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of combustion = heat of reaction for the complete burning of one mole of a sub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ly, the actual yield in a chemical reaction will be equal to or less than the theoretical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CorShape1"/>
          <p:cNvSpPr/>
          <p:nvPr/>
        </p:nvSpPr>
        <p:spPr>
          <a:xfrm>
            <a:off x="223920" y="17431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product can be determined from the amount of excess re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CorShape1"/>
          <p:cNvSpPr/>
          <p:nvPr/>
        </p:nvSpPr>
        <p:spPr>
          <a:xfrm>
            <a:off x="3200400" y="289548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likely happen if you were to touch the flask in which an endothermic reaction were occu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TPChart"/>
          <p:cNvGraphicFramePr/>
          <p:nvPr/>
        </p:nvGraphicFramePr>
        <p:xfrm>
          <a:off x="485640" y="1752480"/>
          <a:ext cx="86583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752480"/>
                    <a:ext cx="86583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ask would probably feel cooler than before the reaction st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ask would probably feel warmer than before the reaction st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ask would feel the same as before the reaction sta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 rot="10800000">
            <a:off x="1050840" y="2976480"/>
            <a:ext cx="432000" cy="4320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5:19:29Z</dcterms:created>
  <dc:creator>jpak</dc:creator>
  <dc:description/>
  <dc:language>en-US</dc:language>
  <cp:lastModifiedBy>Customer</cp:lastModifiedBy>
  <dcterms:modified xsi:type="dcterms:W3CDTF">2010-01-21T16:51:42Z</dcterms:modified>
  <cp:revision>21</cp:revision>
  <dc:subject/>
  <dc:title>Note Guide 7-4</dc:title>
</cp:coreProperties>
</file>